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9488-FBC4-44FF-B683-EAF6E96E2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Office-Power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C1B5-9545-4CEA-9DB1-DD5F53C0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62D2-8764-4CCE-83F8-7303037E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81B-73B3-4961-8F1D-2CCFAA88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12C-7F1D-4E59-A9FE-9BC0AC45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630C-FD93-4349-BC7F-DA606571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F8E7-2967-44CD-B530-ABDA745B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893C-327A-47B9-ACBC-17DA6B2A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9A54-2851-49D8-A433-26380D7B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7801-9F0C-45BE-83ED-7F82D179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4116-7253-4322-840D-984B5D61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FFFE-CCAC-4404-BF75-14BCF788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E93-8B26-4AFF-9D30-ADA80910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6787-8418-43A9-8205-01671857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33C9-B76D-4739-89B1-F9D9A7E2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C09C-B860-4285-B87F-955CFC25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F836-C13A-4D73-BBD5-7EB5924B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A062-945A-426A-AC9C-EF5457FD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E888-0434-4373-B98F-378D2312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D47-7BF5-4673-99AA-C608545E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78B-CFF7-4DA5-BB46-5D063567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D3D5-818D-4C7D-9FDC-4B87B237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232-154F-426F-B3D0-8325DAD5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785-E3FF-43E9-B740-B6211376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E86-58F3-42EE-8E2D-EF0D10CD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0A94-3D9E-44D6-9BD0-0189A98FD2E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4B25-AE5E-4CED-89E4-D7E1EFBD599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ew Nat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240" y="129492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you have been a Federalist or a Democratic Republican? 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403848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Y Xavier Lak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r.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pril 23-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Hamilton vs. Jefferson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onally It is Easy for me to cho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ould have been a Federalist (Hamilt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ould have a strong government-that’s my rea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are to be supporting Hamil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495680" y="4343400"/>
            <a:ext cx="1784520" cy="2514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133720" y="4371840"/>
            <a:ext cx="1768320" cy="248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86200" y="5486400"/>
            <a:ext cx="55260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a500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bout Being a Federalis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are a federal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ood, strong government with 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hough there are limits on states’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 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big National Ba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4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strong government, you have strong leadership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gain respect from other countries because of what they were accompl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2362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One Other Thin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HATE TO BE ON THE JEFFERSON’S SID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say “I like more of the ideas from Hamilton, than I do Jefferson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81080" y="3809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hy I Hate To Be A Democratic Republican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get a WEAK national government (My BIGGEST reason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have </a:t>
            </a:r>
            <a:r>
              <a:rPr b="0" lang="en-US" sz="3200" spc="-1" strike="noStrike">
                <a:solidFill>
                  <a:srgbClr val="ffffff"/>
                </a:solidFill>
                <a:latin typeface="Bodoni MT Condensed"/>
              </a:rPr>
              <a:t>sma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usinesses and farms ( Emphasis on smal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so, no National Ba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638680" y="3200400"/>
            <a:ext cx="1797120" cy="1073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543800" y="3276720"/>
            <a:ext cx="126828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6:52:06Z</dcterms:created>
  <dc:creator>xavier.lakin</dc:creator>
  <dc:description/>
  <dc:language>en-US</dc:language>
  <cp:lastModifiedBy>xavier.lakin</cp:lastModifiedBy>
  <dcterms:modified xsi:type="dcterms:W3CDTF">2008-04-25T16:58:40Z</dcterms:modified>
  <cp:revision>12</cp:revision>
  <dc:subject/>
  <dc:title>New Nations</dc:title>
</cp:coreProperties>
</file>